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EAE-5724-433C-96D6-C7ED38ED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334-79BC-490B-B631-6439287D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A50-6575-4A7F-9AED-F893BE0D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B48-FBD3-4A9C-A1BD-B2957143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9854-6F12-45FC-98E4-5D844A11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5BEB-066D-40C9-AED5-A2A51880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0D01-2FAD-4683-AB6E-538F73EB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CC7A-1450-43B0-8BAA-89F2170F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DC84-D540-4D0F-AAA4-B9288676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924C-7CD7-4245-BFC6-6189C886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7A8D-26CA-494E-8034-2E429212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B375-FAA3-49CE-AAFF-D939B0AA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1DA4-65B2-4FC6-A448-3E42734A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806A-AF7A-4E4D-8B7D-01737882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1BF3-87E4-453C-9214-DF12904F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A065-0DA4-4029-91A4-8706918B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1436-3393-4513-ADB5-30E2CFEF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A46D-AA02-420F-AF95-6DA2C1E0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E4D3-E23F-4150-A62F-66DF8D29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149-7995-40CE-8B96-03B951D7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EDE-A376-4B7D-8AFE-E1FF2A45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0BB-242C-401E-BB71-7CDB00E3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F36-925F-4912-94C7-73A8DAA8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A5F-D3AC-4197-83F4-CAE776D7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17D6-1440-4384-9F75-598060949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6B0C-738B-4260-83E8-4BF976E2AF2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四章  保险承保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个人健康保险业务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健康状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逆选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因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性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作经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生活习惯和生活方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个人意外伤害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危险爱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身体健康状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金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团体保险业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资格、团体的规模、团体成员的投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格、团体的业务性质、参保率、团体成员的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率、保险金额的确定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理赔经验、参保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财产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性能或构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用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环境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重要防护部位及防护措施状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验有无正处于危险状态中的财产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查各项安全管理制度的制定和执行情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保险合同的保全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全的内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全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保全服务的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单保全服务的基本作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附加价值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咨询与投诉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核保  续保  道德风险  心理风险保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获取承保信息的主要渠道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核保中事前选择和事后选择的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道德风险 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心理风险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个人寿险和团体寿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财产保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单保全服务的基本作业的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承保的基本程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制定承保方针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获取和评价承保信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主要渠道：投保单、中介人及其经营业绩、体检报告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地区销售经理、消费者调查报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审查核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作出承保决定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五、单证管理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六、续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承保选择与承保控制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核保的概念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核保是指保险公司对可保风险进行评判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，进而决定是否承保、以什么样的条件承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分析过程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核保的内容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前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投保人或被保险人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标的及其利益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后核保选择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核保控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道德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保险金额，避免高额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赔偿程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心理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免赔额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共同保险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单中订入保证条款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优惠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他优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核保要素分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个人寿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有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体格、 既往症、现症、家庭病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无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、习惯或嗜好、道德风险因素、财务状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31:05Z</dcterms:modified>
  <cp:revision>22</cp:revision>
  <dc:subject/>
  <dc:title>没有幻灯片标题</dc:title>
</cp:coreProperties>
</file>